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869760" y="866880"/>
            <a:ext cx="500364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contexts o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ail o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elp att =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istory of Julian attrib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about Show perm and Show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70120" y="86688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676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 print attributes is huge.  Wild cards o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B50-7AEB-4050-8CA4-EECD1A135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2048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9A-FD3C-465F-BB86-BECC765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50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638-277D-4D1C-9377-B4F39E99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677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460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2048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677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460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ABF-CE7F-4DE3-8474-F9C04257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11A7-C315-4619-97BC-90CC7C4E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204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BC10-7A8B-4D5C-91AF-BBA21C5E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569-91F8-480B-8951-9502E8E5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3AF-C7B5-4F8A-98CA-9089A5B5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9D2C8-20BD-4C47-80C9-E0726F97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33440" y="177840"/>
            <a:ext cx="774720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26B-68D7-4E6A-ABDF-D151A37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E45-C832-4C55-8D13-6DE8587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204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F3B-49AD-4102-BC20-2A95ED8D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50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313E-88AE-4477-BB3A-B978659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FC5E-F40F-46CF-8911-2015894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2048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C2CD-753E-4EF5-A56B-3DD49E88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50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F2A-FF53-4E12-88FD-1E9EAB30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677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01460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2048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677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01460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9D83-2D9D-4EA2-BDE8-C1AEDAF6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9D8-6623-4FAC-BB9F-173942AE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1D3-0561-46AD-A477-3E0CCCBD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03A-7A98-4F1A-AE8C-E074999C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33440" y="177840"/>
            <a:ext cx="774720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B90-2597-4FFE-AE8F-B188C38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F63-AFDE-4B21-9C21-31C09D7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508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C40-B718-434F-9898-A2CD7FD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204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508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2048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EFF-B841-4EBD-A600-7939FEB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38040" cy="6856560"/>
            <a:chOff x="0" y="0"/>
            <a:chExt cx="123804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3804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23804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2380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2048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eeb00b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8520" y="62596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6044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Metalogic OPAL cour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Slide </a:t>
            </a:r>
            <a:fld id="{ED707729-EF3A-4FEF-AA2D-B0518CBD8D8F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980720" cy="6856560"/>
            <a:chOff x="0" y="0"/>
            <a:chExt cx="198072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98072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98072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98072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3880" y="1676520"/>
            <a:ext cx="75117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9807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29264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84188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Slide </a:t>
            </a:r>
            <a:fld id="{83241BED-258D-44D6-BF75-46D2B354FD09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b00b"/>
                </a:solidFill>
                <a:latin typeface="Courier New"/>
              </a:rPr>
              <a:t>Second Outline Level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2160" y="1155600"/>
            <a:ext cx="61912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talogic</a:t>
            </a:r>
            <a:br>
              <a:rPr sz="3200"/>
            </a:br>
            <a:br>
              <a:rPr sz="1800"/>
            </a:b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SUPERVISOR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55440" y="3740040"/>
            <a:ext cx="4762440" cy="222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amming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 OPAL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ast revision 1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March 2009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lative to Supervisor 531.34 Opal 530.5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9720" y="2190600"/>
            <a:ext cx="8605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3960" y="2503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ldcard HELP ATTRIBU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1960" y="1204560"/>
            <a:ext cx="75567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wildcard pattern may be used for the attribute name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TT HELP ATT EOJ=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---- HELP ATTRIBUTES ----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CAUSE                     COMPLETED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CAUSE                     LOGEOJ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HISTORY                   COMPLETED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HISTORY                   LOGEOJ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REASON                    COMPLETED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REASON                    LOGEOJ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REASONTEXT                LOGEOJ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TYPE                      COMPLETED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EOJTYPE                      LOGEOJ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TT HELP ATTR =MSG=             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                         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---- HELP ATTRIBUTES ----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DG1MSGSOUT                   FILECLOSE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DG2MSGSOUT                   FILECLOSE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MAXCONMSG                    SYSTEM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MSGCAT                       MESSAGE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MSGDATE                      MESSAGE ….. </a:t>
            </a: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B65F-F1AC-407A-8711-9D32E50B89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ATTRIBUTE with contex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30240" y="1187280"/>
            <a:ext cx="75312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context can be added after a HELP ATT comm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HELP ATT =:MSG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---- HELP ATTRIBUTES ----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CODEMIXNO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IDENTITY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IMPORTED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JOBNO 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JOBNUMBER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IXNO 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IXNUMBER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CT 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DATE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DAY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IDENTITY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NO 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NUMBER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PARAM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TIME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TIMESTAMP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SGTYPE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ESSIONNO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ESSIONNUMBER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EXT                         MESSAG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6B6-8380-4EFF-8A1B-28E5F562FC7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ATTRIBUTE with deta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30240" y="1187280"/>
            <a:ext cx="753120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ull details can be returned for a wild card HELP AT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HELP ATT =NO:MSG (DETAIL)                                                                                                                                   ---- HELP ATTRIBUTES ----                                                       CODEMIXNO (MESSAGE) Returns INTEGER Link to MX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Semantics : CODEMIXNO returns the mix number of the task who owns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the code that generated the message.  Usually the same as MIXNO.                                                                                   JOBNO     (MESSAGE) Returns INTEGER Link to MX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Semantics : JOBNUMBER returns the job number or session number of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the task which displayed the message. Some messages do not have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an associated job or session.                                                                                                                      MIXNO     (MESSAGE) Returns INTEGER Link to MX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Semantics : MIXNUMBER returns the mix number of the task which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displayed the message.  Some messages do not have an associated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task.                                                                                                                                              MSGNO     (MESSAGE) Returns INTEGER Range 0 to 4095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MSGNUMBER is a synonym for this Attribute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Semantics : MSG number.  The MCP uses this number to find the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message text for the given MSGTYPE.                                                                                                               SESSIONNO (MESSAGE) Returns INTEGER Link to MX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Semantics : JOBNUMBER returns the job number or session number of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the task which displayed the message. Some messages do not have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an associated job or session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46E-3CA7-4E9D-B77D-3FF951A9E43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SIT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11000" y="1227240"/>
            <a:ext cx="80010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valuates a &lt;boolean expression&gt; to TRUE or FAL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T DEF SITU &lt;name&gt; &lt;situ context&gt; : &lt;boolean exp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INE SITUATION META_ALL(MX):True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 SITU META_W(MX=W):True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 SITU META_REMOVED(MSG)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MGSCAT = MSRDIR4 And MGSNO = 4 And "TEST/REM" ISIN TEXT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+ to redef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 + SITU META_FAILED(LogEoj)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EOJTYPE NEQ NORMALEOTV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 + SITU LOWIDLE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CTTRUEIDLE &lt; 5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2B5-97FB-4876-B89D-F7391E597FC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Defining ODTSEQUENC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14240" y="1329840"/>
            <a:ext cx="8001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Implements a sequence of actions such as ODT comma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T DEF  ODTS &lt;name&gt; &lt;Odts context&gt;:&lt;ODT statements&gt;</a:t>
            </a: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INE ODTSEQUENCE META_DS(MX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Mixnumber,"DS"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ODTS META_REMOVED(MSG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"MQ 10 ML 1")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ODTS START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"START MYJOB ON DEV("""&amp;String(TODAY,*)&amp;""")"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"START MYJOB/1 ON DEV");</a:t>
            </a:r>
            <a:br>
              <a:rPr sz="12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 + to redef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ODTS META_DS(MX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Mixnumber,"LP-"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ISPLAY("Dsed by Supervisor"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Mixnumber,"DS0");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F62-4A01-4CBD-84D8-EF3A1378965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fining DISPLAY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98120" y="1248840"/>
            <a:ext cx="8001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mited usage because better alternative methods avail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T DEF  DISP &lt;name&gt; &lt;Odts context&gt;:&lt;string expression&gt;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DISPLAY META_SIMPLE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This is Simple Text",/, "Line 2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DISP META_ATTS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MCP is ", MCP, " and intrinsics are",,SI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 DISP META_MX(MX)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Mixno ",MIXNO,," Name: ",NAME 40</a:t>
            </a:r>
            <a:br>
              <a:rPr sz="14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+ to redef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 + DISP META_MX(MX)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Mixno ",MIXNO,," Name: ",NAME 40,/,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Usercode: ",USER,," Accesscode: ",ACCESSCOD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0FE-7DEA-4A32-8659-9492723E8BF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Boolean Expres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45920" y="1257480"/>
            <a:ext cx="78073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All SITUation definitions must be a Boolean expressio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EFINE + SITUATION WAIT(MX=WAITING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RUE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EFINE + SITUATION SCHED(LOGBOJ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NAME INCL "METALOGIC"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d in conditional express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IF &lt;BOOLEAN EXPRESSION&gt; THEN &lt;ACTION&gt; ELSE &lt;ACTION&gt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EFINE + SITUATION SCHED(LOGBOJ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IF NAME INCL "METALOGIC" THEN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RUE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FALSE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0"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E92-AB80-4BF1-B8FD-3E78BF39A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ithmetic expres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59080" y="1528920"/>
            <a:ext cx="80546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examples of expressions using numbers and attribu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100*5+400-200/5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TIMEOFDAY attribute returns time of day in seco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IMEOFDAY/60/60</a:t>
            </a:r>
            <a:br>
              <a:rPr sz="1600"/>
            </a:br>
            <a:r>
              <a:rPr b="0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calculate the total amount of memory on the sys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CUAVAIL+CUSAVE+CUOLAY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find the overall processor rate for a mix e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PROCTIME/ELAPSEDTIM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169-408F-4706-B8F4-90C69F74244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0480" y="228240"/>
            <a:ext cx="84200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ithmetic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74640" y="1384200"/>
            <a:ext cx="764568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PAL has its own set of WFL - like arithmetic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TEGER rounds reals to integ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INTEGER(1.5)         returns   2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ENGTH returns length of a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LENGTH("abcdef")     returns   6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CIMAL returns real value of a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ECIMAL("1234")      returns   1234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ECIMAL("12E4")      returns   120000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X and MIN return max and min of two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MAX(12+44, 63/7)     returns   56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42D6-2685-41BC-80BA-9ED691D5325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33080" y="177840"/>
            <a:ext cx="7759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Str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19280" y="1298520"/>
            <a:ext cx="78818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d in OPAL DISPlay programs and various statemen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nderstanding simple OPAL string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"Hello World"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 / to signify a new 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"Hello World",/,"This is the second line"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 double quotes or primes to display a single quote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"RUN *SYSTEM/DUMPALL(""TEACH"")"       or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'RUN *SYSTEM/DUMPALL("TEACH")'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imple OPAL strings may consist of multiple strings, attributes or even arithmetic expressions</a:t>
            </a:r>
            <a:br>
              <a:rPr sz="2000"/>
            </a:br>
            <a:br>
              <a:rPr sz="1000"/>
            </a:b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en-GB" sz="1400" spc="-1" strike="noStrike">
                <a:solidFill>
                  <a:srgbClr val="ffcc66"/>
                </a:solidFill>
                <a:latin typeface="Courier New"/>
              </a:rPr>
              <a:t>MCP is ",MCP,,"(12*15)+22 is",,(12*15)+22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CC1-8BCE-453D-85E0-697ED1011C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COMPI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434960"/>
            <a:ext cx="74678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tegrated into Supervisor and Fle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 not create codefiles but interpreted pseudo-c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ll string, arithmetic, date and time function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werful reporting capabilities to ODT or print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FL and ALGOL-like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tensive range of OPAL attribute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6AD-081F-40A1-AD62-BB774CDDC2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ing expression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63560" y="1195200"/>
            <a:ext cx="824256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dentical to WFL string expressions - uses‘&amp;’ concatenation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“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HE MCP IS " &amp; WM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AUTODC is ”&amp; IF OP(AUTODC) THEN "SET" ELSE "RESET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IF DAYINWEEK = {1,7} THEN "WEEKEND" ELSE "WEEKDAY"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CASE DAYINWEEK-1 OF ("DIMANCHE","LUNDI","MARDI","MERCREDI",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       "JEUDI","VENDREDI","SAMEDI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ixing reals and strings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TRING(MIXNO,4)&amp;","&amp;NAME&amp;","&amp;STRING(PRIORITY,*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ust use '&amp;' in conditional expres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IF #A=1 THEN "A IS 1" ELSE "A="&amp;STRING(GET("A"),*) is valid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IF #A=1 THEN "A IS 1" ELSE ("A=",#A))    compile fails!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PAL strings are NOT permitted in conditional string express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BC59-7FFA-450F-8EC2-DBDA212A4B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ing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30440" y="1250640"/>
            <a:ext cx="812808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CIMAL and LENGTH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LENGTH(MCP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LENGTH(TEXT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quires MSG context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HEAD and TAIL function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S:="700 SECTORS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HEAD($S,"0123456789"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"700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AIL($S,"0123456789"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" SECTORS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AKE and DROP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AKE("ABC",10)&amp;"next string"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"ABCnext string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ROP("ABC",10)&amp;"next string"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"next string"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nlike WFL, OPAL does not fault if function call exceeds actual length of st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4D2-7930-474D-A245-6B087699ADE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20480" y="241200"/>
            <a:ext cx="796284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OW and DISPLAY stat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60160" y="1260360"/>
            <a:ext cx="807732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sential OPAL!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permitted in ODTSEQU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 returns response to calling ODT or COMS wind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 SHOWME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Hello World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SHOWM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Hello World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ful diagnostics aid and better than DISPLA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LAY generates message ODT/window and SUMLO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ISPLAY("THIS IS A TEST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ISPLAY(IF DL(JOBS) NEQ "PACK" THEN "WARNING: DL JOBS WRONG"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                        ELSE "DL JOBS OK"))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DISPLAY messages prefixed by "SUPERVISOR: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B9E-1E38-476D-8E20-E8BBCE7CE2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T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09280" y="1318680"/>
            <a:ext cx="760428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ssential OPAL! Only permitted in ODTSEQUE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T allows system commands and WFL to be execut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MQ 255 ML=1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START MY/JOB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OBJECTS(MX=WAITING:TRUE),"DS0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FL jobs can inherit usercode and accesscode attribut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EFINE + ODTS STARTME: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ODT("START MYJOB ON DEV");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FOR META/PW ACCESS TEST/PW2 DO STARTM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cessing of Supervisor command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TT DO TEST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TT PRINT SCHEDULE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FF6-0128-4014-801E-7B1E40336C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0480" y="241200"/>
            <a:ext cx="84200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e and Time attribu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269720"/>
            <a:ext cx="808992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DAY or TODAYSJULIANDATE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oday’s date –1900 Julian format e.g.1 January 2000 =  10000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DAYYYY  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oday’s date in 7-digit Julian format (yyyyddd) </a:t>
            </a:r>
            <a:br>
              <a:rPr sz="20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e.g. 1 January 2000 = 200000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IMEOFDAY 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he current time of day in secon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ODAYSDATE </a:t>
            </a: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(See SO USDATES)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oday’s date as a string in dd/mm/yy or mm/dd/yy format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OLIDAY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RUE if today is a holiday known to Supervisor. Optional julian parameter can determine holidays in the future or pa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eb00b"/>
                </a:solidFill>
                <a:latin typeface="Courier New"/>
              </a:rPr>
              <a:t>HOLIDAY(2004001)   checks 1</a:t>
            </a:r>
            <a:r>
              <a:rPr b="1" lang="en-GB" sz="1800" spc="-1" strike="noStrike" baseline="30000">
                <a:solidFill>
                  <a:srgbClr val="eeb00b"/>
                </a:solidFill>
                <a:latin typeface="Courier New"/>
              </a:rPr>
              <a:t>st</a:t>
            </a:r>
            <a:r>
              <a:rPr b="1" lang="en-GB" sz="1800" spc="-1" strike="noStrike">
                <a:solidFill>
                  <a:srgbClr val="eeb00b"/>
                </a:solidFill>
                <a:latin typeface="Courier New"/>
              </a:rPr>
              <a:t> January 2004</a:t>
            </a: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3AA-AFF1-4F0C-A6C8-2F2D1D7E2EE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215640"/>
            <a:ext cx="7746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e and Time attribu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9840" y="1218960"/>
            <a:ext cx="779796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ORKDAY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RUE if today is a workday known to Supervisor. Optional julian parameter can determine holidays in the future or past. Only Saturdays and Sundays may be additional ‘work’ day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WORKDAY(2002005)        checks Saturday, 5</a:t>
            </a:r>
            <a:r>
              <a:rPr b="1" lang="en-GB" sz="1600" spc="-1" strike="noStrike" baseline="30000">
                <a:solidFill>
                  <a:srgbClr val="eeb00b"/>
                </a:solidFill>
                <a:latin typeface="Courier New"/>
              </a:rPr>
              <a:t>th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Jan 2002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XTWORKDAY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Returns the Julian date of the next day which is not a weekend or holiday.  Optional parameter can find workdays in the future or pas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NEXTWORKDAY(-1)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gives the previous workday .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NEXTWORKDAY(4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on Monday gives Friday’s date if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not holiday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ther date and time attributes</a:t>
            </a:r>
            <a:br>
              <a:rPr sz="2400"/>
            </a:br>
            <a:br>
              <a:rPr sz="1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DAYINMONTH, DAYINWEEK, DAYINYEAR, MONTH, YEAR, </a:t>
            </a:r>
            <a:br>
              <a:rPr sz="20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HOUROFDAY, MINUTEOFDAY, SECONDOFDAY, TIMEDATE</a:t>
            </a:r>
            <a:r>
              <a:rPr b="0" lang="en-GB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EC8-67C9-44F5-8F8A-B7AA55CC28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74560" y="1253880"/>
            <a:ext cx="81788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ATETOTEXT converts julian dates into many string form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ATETOTEXT(TODAY,DDMMYY)   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04/02/04</a:t>
            </a:r>
            <a:r>
              <a:rPr b="1" lang="en-GB" sz="12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eware of illegal julian dates 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ATETOTEXT(TODAY+365,DDMMMYY)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  ******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rrect method for julian date arithmetic uses NEWDATE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ATETOTEXT(NEWDATE(TODAY,365),DDMonYYYY,Delim) -&gt; 3 Feb 2005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29040" indent="-32904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OSLASH modifier returns date without ‘/’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ATETOTEXT(TODAY,DDMMYYYY,NOSLASH)     returns   04022004</a:t>
            </a:r>
            <a:br>
              <a:rPr sz="1600"/>
            </a:br>
            <a:r>
              <a:rPr b="0" lang="en-GB" sz="9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eeb00b"/>
              </a:solidFill>
              <a:latin typeface="Courier New"/>
            </a:endParaRPr>
          </a:p>
          <a:p>
            <a:pPr marL="329040" indent="-32904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FAULT modifier returns date dependent on SO USDATE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ATETOTEXT(TODAY,DEFAULT)              returns 04/02/2004</a:t>
            </a:r>
            <a:r>
              <a:rPr b="1" lang="en-GB" sz="12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7E6-AE8F-4BEC-A1EC-66C2833075C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14680" y="1305000"/>
            <a:ext cx="819144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DAYS function returns difference between two julian da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AYS(TODAY,2005001)     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   332</a:t>
            </a:r>
            <a:r>
              <a:rPr b="1" lang="en-GB" sz="10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NEWDATE adds or subtracts a number of days from a d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NEWDATE(2000001,366)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 2001001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NEWDATE(2000001,-1)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 1999365</a:t>
            </a:r>
            <a:br>
              <a:rPr sz="1200"/>
            </a:br>
            <a:r>
              <a:rPr b="0" lang="en-GB" sz="700" spc="-1" strike="noStrike">
                <a:solidFill>
                  <a:srgbClr val="eeb00b"/>
                </a:solidFill>
                <a:latin typeface="Courier New"/>
              </a:rPr>
              <a:t>  </a:t>
            </a:r>
            <a:endParaRPr b="0" lang="en-US" sz="7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DAYNAME returns current day of week 1-Sun, 7-Sat  or day of any given d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AYNAME(3)&amp; " " &amp; DAYNAME(2005001) returns TUESDAY SATURDAY</a:t>
            </a:r>
            <a:r>
              <a:rPr b="1" lang="en-GB" sz="10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00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MONTHNAME returns current month 1-Jan, 12-Dec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MONTHNAME(1)&amp; " " &amp; MONTHNAME(12)) returns JANUARY  DECEMBER</a:t>
            </a:r>
            <a:br>
              <a:rPr sz="1400"/>
            </a:br>
            <a:r>
              <a:rPr b="0" lang="en-GB" sz="9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DAYINWEEK returns current weekday: 1-Sun, 7-S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684-E8C3-4BF6-8541-D6175E8FCE2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e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89040" y="1244520"/>
            <a:ext cx="81662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IMEDATE attribute like TIMEDATE in WF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IMDATE(DISPLAY) return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EDNESDAY 2:59 PM Wednesday, February 4,2004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IME function converts integer into a formatted time string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IME(TIMEOFDAY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might return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07:25:03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AKE(TIME(MCPTIME),5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might return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01:15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JULIAN takes a string containing a date in 'dd/mm/yy' format and returns an integer in 'yyyyddd' form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JULIAN("31/12/04")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2004366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NEXTWORKDAY calculates julian date of next working day, adjusted for weekends and holidays</a:t>
            </a:r>
            <a:br>
              <a:rPr sz="2000"/>
            </a:br>
            <a:br>
              <a:rPr sz="1200"/>
            </a:br>
            <a:r>
              <a:rPr b="1" lang="en-GB" sz="1400" spc="-1" strike="noStrike">
                <a:solidFill>
                  <a:srgbClr val="ffcc66"/>
                </a:solidFill>
                <a:latin typeface="Courier New"/>
              </a:rPr>
              <a:t>DATETOTEXT(NEXTWORKDAY(2),DEFAULT)    might return 28/01/2004</a:t>
            </a:r>
            <a:r>
              <a:rPr b="1" lang="en-GB" sz="14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A79-F2C8-49FB-B634-171C9539308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36840" y="1379520"/>
            <a:ext cx="8105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 the following exercises you can test your expressions using the command TT DISP (…) , inserting your expression between the parenthes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.  Write a string expression to show the date 400 days from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 today in 'dd/mm/yyyy' format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x. </a:t>
            </a: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14/02/2005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2.  Write an expression to find the number of days between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  Today's date and Christmas Day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Hint: You need to use the DAYS and JULIAN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B9D-1C4E-4C94-936A-D70329312C4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COMPI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74640" y="1345680"/>
            <a:ext cx="81662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our main program "types": 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SITUATION</a:t>
            </a:r>
            <a:br>
              <a:rPr sz="1800"/>
            </a:b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  ODTSEQUENCE</a:t>
            </a:r>
            <a:br>
              <a:rPr sz="1800"/>
            </a:b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  COMMAND</a:t>
            </a:r>
            <a:br>
              <a:rPr sz="1800"/>
            </a:b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  DISPLAY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Each program has CONTEXT which determines Object typ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Each context has its own set of ATTRIBU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Opal programs maintained by Supervisor DEFINE comman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ource and code held in SCHEDULE f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"In-line" Opals for testing and ad-hoc programm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D23-AFFF-463B-8261-84FBA41EFB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ing 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25400" y="1231920"/>
            <a:ext cx="774684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ivate, temporary storage for each active OPAL progra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Real variable type</a:t>
            </a: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(single-precision, floating point)</a:t>
            </a:r>
            <a:endParaRPr b="0" lang="en-US" sz="20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String variable   </a:t>
            </a: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(max length </a:t>
            </a:r>
            <a:r>
              <a:rPr b="0" lang="en-GB" sz="2000" spc="-1" strike="noStrike">
                <a:solidFill>
                  <a:srgbClr val="eeb00b"/>
                </a:solidFill>
                <a:latin typeface="Times New Roman"/>
              </a:rPr>
              <a:t>1,999,999</a:t>
            </a:r>
            <a:r>
              <a:rPr b="1" lang="en-GB" sz="2000" spc="-1" strike="noStrike">
                <a:solidFill>
                  <a:srgbClr val="eeb00b"/>
                </a:solidFill>
                <a:latin typeface="Times New Roman"/>
              </a:rPr>
              <a:t> characters)</a:t>
            </a:r>
            <a:endParaRPr b="0" lang="en-US" sz="20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ximum total of 256 variables implemented as 'heap'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ximum length of 17 characters for each identif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wo methods of accessing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eb00b"/>
                </a:solidFill>
                <a:latin typeface="Times New Roman"/>
              </a:rPr>
              <a:t>Old mechanism:  PUT, GET, PUTSTR, GETSTR, STORE</a:t>
            </a: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eb00b"/>
                </a:solidFill>
                <a:latin typeface="Times New Roman"/>
              </a:rPr>
              <a:t>New mechanism: Direct assignment using ':=' operator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f limit exceeded, OPAL program abor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pecial PERManent Global and CONFIG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62-5066-44A2-9E4D-19290CEB9C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al 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65440" y="1325160"/>
            <a:ext cx="769608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al variables prefixed by #, no declaration need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A,  #MyMixNo, #TestInt,  #ThisIsaLongId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*Preferred* alternative to GET, PUT and STO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ssignments permitted using := ope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VAR:=11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f used in an expression and the value is not to be returned, use the STORE metho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VAR.STORE(10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ames are up-cased, beware of usage with old Fun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Var is the same as #VAR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Get("Var") is *not* the same as Get("VAR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6DB-7871-44BD-9002-5C33A8CEFD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279360"/>
            <a:ext cx="8420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d’ Real 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14680" y="1382760"/>
            <a:ext cx="7976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Old mechanism implemented by GET, PUT and STORE functions which allocate variable name and assign valu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PUT stores and returns value; GET returns current val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PUT("VAR",11),", VAR = ",GET("VAR"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11, VAR = 11</a:t>
            </a:r>
            <a:r>
              <a:rPr b="1" lang="en-GB" sz="10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Beware, variable names are case-sensitiv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PUT("Var",22),", VAR = ",GET("VAR"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return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22, VAR = 0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TORE is like PUT but always returns empty str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TORE("VAR",10),,"V=",GET("VAR")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V= 10</a:t>
            </a:r>
            <a:r>
              <a:rPr b="1" lang="en-GB" sz="10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0">
              <a:spcBef>
                <a:spcPts val="249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630-EE31-4170-B11D-BB5E65DC77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al variable metho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32040" y="1170000"/>
            <a:ext cx="77025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sed to perform actions on value in a vari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ethod usage specified by use of '.'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UM adds value into variable and returns new tot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MYCNT.SUM(10)      % adds 10 to #MYCNT, returns total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LTA adds value into variable and returns differe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MYCNT.DELTA(20)    % stores 20 in #MYCPU, returns 10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CUM adds value into variable and returns old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MYACC.Accum(20)    % adds 20 to #MYCPU, returns 20 </a:t>
            </a:r>
            <a:br>
              <a:rPr sz="1600"/>
            </a:b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ORE stores value and returns empty st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B1ED-16D8-4E62-BCD1-37841831AFA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ing 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5320" y="1161720"/>
            <a:ext cx="7709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tring variables prefixed by $, no declaration nee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A, $McpName, $TestStr, $ThisIsaLongName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*Preferred* alternative to GETSTR, PUTSTR and STOR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Assignments permitted using ‘:=‘ ope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MCP:="THIS IS "&amp;MCP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Z:="ABCD"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TORE method must be used where empty string values needed in an express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"Test"&amp;$VAR.STORE("abc")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returns only "Test" but stores "abc" into $VAR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 ‘&amp;’ to append string to existing value in variab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A:=$A&amp;"DEF"            is equivalent to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A:=&amp;"DEF"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D23-65C1-4415-8687-C221E0C23A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ld’ String variab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6080" y="1244520"/>
            <a:ext cx="8076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UTSTR stores the string expression and returns string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UTSTR("S1","THIS IS"&amp;MCP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GETSTR returns a previously stored string valu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GETSTR("S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ORE can be used like PUTSTR but returns empty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TORE("Var","abc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cess to PERManent and CONFIGuration variab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UTSTR("MYTEMP","Permanent",PERM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GETSTR("MYTEMP",PERM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GETSTR("SUP_UCODE", CONFIG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se ‘&amp;’ to append string to existing value in vari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UTSTR("A",GETSTR("A")&amp;"DEF"))      is equivalent to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UTSTR("A",&amp;"DEF")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249-FBCE-4CE3-844D-3746078BA0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riable assign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42680" y="1339920"/>
            <a:ext cx="782316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Assign values to OPAL variables as statemen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A:="ABCDEFGHIJ"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TIME:=TIMEOFDAY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ODT("TT DO TEST ",$A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TORE is also fine to use but not preferred metho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TORE("A","ABCDEFGHIJ"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TORE("Time",TIMEOFDAY)</a:t>
            </a:r>
            <a:r>
              <a:rPr b="0" lang="en-GB" sz="1400" spc="-1" strike="noStrike">
                <a:solidFill>
                  <a:srgbClr val="eeb00b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Both are safe, no "dangling" strings generat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Do *not* use standalone PUTSTR, GETSTR (unsafe statements give warnings or syntax error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PUTSTR("Z","TL");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% Gives error if STRICTODT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PUTSTR("Z1","Dump");    % Would take memdump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8449-7F9A-467B-B850-76676F5518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M and CONFIG Proper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84240" y="1174680"/>
            <a:ext cx="7709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sing PERManent and CONFIGuration properti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MYTEMP.PERM:="Permanent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MYTEMP.PERM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SUP_UCODE.CONFIG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ERM property can also be used with numeric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ERM properties store the values in the Magus ConfigurationData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eserved across Supervisor restarts, potentially expens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NFIG properties are used to interrogate Metalogic configuration options - cannot be assigned in O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B04-3F7D-4D95-86FB-5974CAB508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GLOBAL Proper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06040" y="1441440"/>
            <a:ext cx="7656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GLOBAL variables shared by all WHEN slo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#MYGLOB.GLOBAL:= 1.23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  $MYGLOBSTRING.GLOBAL:= "Test String"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  If #MYGLOB.GLOBAL Gtr 0 Then …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vailable for both numeric and string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ore efficient than PERM variables - lower overhe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alues lost after a restart of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vailable to FLEX users for life of FLEXLIB libra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E59-1C3D-4329-B290-39655E52E6B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33440" y="177480"/>
            <a:ext cx="77472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meth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77760" y="1137960"/>
            <a:ext cx="7721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LIT allows parsing of a string list held in a variable.  As a function, SPLIT(“A”) is equivalent to $A.SPLI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s first item in list &amp; drops item (plus delimiter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:="1234,6789,2034”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.SPLIT returns "1234" and leaves $A="6789,2034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ault list target is comma but various options ex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.SPLIT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arget ','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.SPLIT("."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arget '.'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.SPLIT(5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akes 5 char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A.SPLIT(" ON ")                  target ' ON '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ecial target for carriage returns (COMS and KEYIN 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LINE:=$Response.Split(/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tore("Line",Split("RESPONSE",/)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177" name=""/>
          <p:cNvSpPr/>
          <p:nvPr/>
        </p:nvSpPr>
        <p:spPr>
          <a:xfrm>
            <a:off x="481824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1F47-C5CF-4AD1-BF7F-A94F74B8032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Programm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14400" y="1384200"/>
            <a:ext cx="746784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ke many other programming languages it is much easier to modify existing program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talogic will be happy to help with examp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mail Support@metalo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ll our support number 01786 43082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 can normally email you example code within the hou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spcAft>
                <a:spcPts val="21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re is no additional charge for this servic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E2C-C7EF-4D73-A230-F9FFB2E3BAD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meth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61680" y="1257480"/>
            <a:ext cx="80773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egant alternative to using TAKE,DECAT,STO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EQUENCE COURSE_SPLIT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PARAM:="AB,CD_EF"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plit 1=",$PARAM.SPLIT, " PARAM=",$PARAM)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plit 2=",$PARAM.SPLIT("_"), " PARAM=",$PARAM)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plit 3=",$PARAM.SPLIT(1),", PARAM=",$PARAM);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COURSE_SPLIT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plit 1=AB, PARAM=CD_EF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plit 2=CD, PARAM=EF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plit 3=E, PARAM=F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for parsing OBJECTS results or special attributes like LIBUSERL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L:=OBJECTS(MX=LIBS:TRUE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L.SPLIT     returns the mixnumber of the first library in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he list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C2A-3428-4766-8219-841AFF12A3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String metho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61680" y="1257480"/>
            <a:ext cx="807732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e the Opal manual for details of the follow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Incl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Cu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Cop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Distribu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4E0-D365-4696-B89D-A6F8F6AB3F8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Variable Properti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39800" y="1417680"/>
            <a:ext cx="78566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X, PER, TAPEDB, PRINTS for both strings and real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llow interrogation of objects identified by the contents of the variabl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A:=12345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A.MX(Name)   -&gt; returns the NAME of the mix entry 12345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xpresssion in parentheses can use attributes in the context matching the property na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S.TAPEDB(#(Serialno,,Creationdate,,Title)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 ? ODTS COURSE_MX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$List:=Objects(MX=W:TRUE)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While $M:=$List.Split Neq Empty DO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how($M.MX(#(Mixnumber 5,,Name,/," " 5,,RSVP))) 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9921-D54B-4ACC-A9CB-5BCF11291EE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14320" y="1536840"/>
            <a:ext cx="79628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.   Convert the following expressions using Put, Putstr etc. to  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use the new syntax for variables e.g.</a:t>
            </a:r>
            <a:br>
              <a:rPr sz="2400"/>
            </a:b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Putstr("X",Getstr("Y")&amp;",NEXT")         would be changed to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    $X:=$Y&amp;",NEXT"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efine the ODTS Course_Convert using your initials in place of Course and then convert it to use new vari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TT DEF ODTS &lt;inits&gt;_Convert: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tore("X",5);    Store("Y",7);   Store("B","47");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tore("PAGE","Result ");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how(Sum("X",Get("Y")));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how(Max(Get("X"),Decimal(GetStr("B"))/2));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tore("PAGE",&amp;Getstr(“B")&amp;".");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Show(GetStr("PAGE"))</a:t>
            </a:r>
            <a:br>
              <a:rPr sz="2000"/>
            </a:br>
            <a:br>
              <a:rPr sz="2000"/>
            </a:br>
            <a:br>
              <a:rPr sz="1000"/>
            </a:b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5BF-8762-463D-A257-2484D4A2C41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e OPAL string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9040" y="1139400"/>
            <a:ext cx="7975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(..)  function, known as "hash-paren"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implifies string expressions by allowing OPAL string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ODTS INFO(MX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HOW(IF COMPILER THEN STRING(MIXNO,4)&amp;" "&amp;COMPILERNAME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          ELSE STRING(MIXNO,4)&amp;" "&amp;NAME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ODTS INFO(MX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HOW(IF COMPILER THEN #(MIXNO 4,,COMPILERNAME)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  ELSE #(MIXNO 4,,NAME))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annot use simple OPAL string to update string variable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DISP TEST(MX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LINE:=MIXNUMBER 4,,PRIORITY 3,,NAME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* (LINE:1)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tring expression expected - 4 (LINE:1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bove expression is illegal because of commas, but this will comp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DISP TEST(MX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$LINE:=#(MIXNUMBER 4,,PRIORITY 3,,NAME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27B-B0A8-4D87-98FA-06B95C78D2A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ings in ODTSeque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74280" y="1320480"/>
            <a:ext cx="7836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ngling strings usage controlled by STRICTODTS option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annot use PUTSTR as a statement, always STOR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STRVAR(MESSAGE):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RUN PROG1(""", PUTSTR("P", TEXT &amp; " TODAY"), """)";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ODT("RUN PROG2(""", GETSTR("P"),""")");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PUTSTR("X","THIS WILL BE SENT TO THE SYSTEM");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$X:="THIS WILL NOT BE SENT TO THE SYSTEM"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arning, This construct is Unsafe - ; (LINE:1)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arning, This construct is Unsafe - ; (LINE:3)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* (LINE:4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Invalid primary -  (LINE:4)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arning, This construct is Unsafe (LINE:4)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TSequences should be checked by TEST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STRVAR2(MESSAGE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ODT("RUN PROG2(""",TEXT,""")");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TEST COURSE_STRVAR TEST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---Mix-Time--------------------- 44 MESSAGES ---------------------- 4711 20:04 SUPERVISOR/COURSE_STRVAR2 ODT:RUN PROG2("TEST"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991-7478-4B5A-9F9D-1AF24A9E25C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field width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00200" y="1333080"/>
            <a:ext cx="830592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 any OPAL string, string expression followed by integer causes expression to be left-justified with trailing spac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MCP is:" 20,,MCP 30,,"."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might return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MCP is:              *SYSTEM/ASD/MCP/461_1A7      .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rmat real values to fixed number of decimal places e.g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(14567/3.82) 6.3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returns  3813.351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f arithmetic expression is followed by integer, expression is converted to right-justified string with leading spac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Avail core ",,CUAVAIL 10,,"Save core ",CUSAVE 10   return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Avail core   506001 Save core   2800645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MIXNUMBER 4,,PRIORITY 3,,NAME 40,,USERCODE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return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4688 85 *METALOGIC/SUPERVISOR/RECORDER          SUPERVISOR</a:t>
            </a:r>
            <a:br>
              <a:rPr sz="12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wo commas in any OPAL string inserts a single spa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D1A-E632-43A7-91CB-8C44B68A5EC2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177840"/>
            <a:ext cx="61596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E expr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85720" y="1143000"/>
            <a:ext cx="814068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sed in arithmetic or string expressions, not to be confused with CASE statement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CS:=3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CASE #CS OF("StrA","StrB","StrC","StrD") would return “StrD”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Like Algol and WFL, CASE index is 0 - relative and only implicit arithmetic case numbering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ODTS COURSE_CASE(MSG):          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I:=Decimal(Text));                                    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how(Case #I-1 of ("Jan","Feb","Mar","Apr","May","Jun",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             "Jul","Aug","Sep","Oct","Nov","Dec"))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O COURSE_CASE 12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Dec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ince no ELSE handling, invalid case index causes abort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O COURSE_CASE 13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SUPERVISOR/DO+CASE_EX:BAD INDEX TO CASE EXPRESSION IN ODTS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@97630000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E1C-70F6-4FC9-99F5-3A8741F8D9E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3080" y="17748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UNT and OBJECTS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181160"/>
            <a:ext cx="842004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rovides mechanism for filtering object in certain contex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UNT returns number of objects found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BJECTS returns string containing a list of the objects foun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COUNT(PER=PK:PACKTYPE=BASEPACK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OBJECTS(PER=PK:PACKTYPE=BASEPACK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COUNT(MX=A:USER="SUPERVISOR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OBJECTS(MX=A:USER="SUPERVISOR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y be used in *any* OPAL program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 TRIM, only PER and MX contexts are permitted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In full SUPERVISOR, contexts include TAPEDB &amp; PRIN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Scr tapes =",OBJECTS(TAPEDB=SCRATCH:DENSITY=BPI1250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Supervisor requests =", COUNT(PRINTS:USER="SUPERVISOR")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9E7-A894-41B2-8CD1-F8A740D634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15680" y="1363680"/>
            <a:ext cx="79628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1. Write a string expression  which would return the text: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cc66"/>
                </a:solidFill>
                <a:latin typeface="Times New Roman"/>
              </a:rPr>
              <a:t>RUN OBJECT/TEST("&lt;dlbackup&gt;"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here &lt;dlbackup&gt; is replaced by the actual DL Backup family.</a:t>
            </a:r>
            <a:r>
              <a:rPr b="0" lang="en-GB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st it by entering 'TT  DISP (&lt;your exp&gt;)'  with your expression between the parenthes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2. Write a string expression to return the system type presented as: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cc66"/>
                </a:solidFill>
                <a:latin typeface="Times New Roman"/>
              </a:rPr>
              <a:t>System Range LX model 100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 replacing LX by the system type of your system and 100 by the model 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 of your system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nt: The SYSTEM attribute should help her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st by entering 'TT DISP (&lt;your exp&gt;)'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2C5-30A4-4132-818B-D74BAEC6A77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618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on-log OPAL contex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05040" y="2178000"/>
          <a:ext cx="7516800" cy="46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2178000"/>
                    <a:ext cx="75168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120" y="1174680"/>
            <a:ext cx="73328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ata and events obtained directly using MCP interf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vailable in real-time (event-driven) and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1A10-0AC2-40B9-B299-7F3E9831C01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33080" y="240840"/>
            <a:ext cx="84200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AT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77680" y="1282680"/>
            <a:ext cx="78613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Enhances TAKE, DROP, HEAD and TAI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Multiple actions in one 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earches a source string for targ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TT DEFINE + ODTSEQUENCE COURSE_DECAT:     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%Illustrates the Decat function           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%Enter TT DO COURSE_DECAT to test         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$S:="BEGININGMIDDLEEND";                  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Show("0(000)[",Decat($S,"MIDDLE",0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1(001)[",Decat($S,"MIDDLE",1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2(010)[",Decat($S,"MIDDLE",2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3(011)[",Decat($S,"MIDDLE",3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4(100)[",Decat($S,"MIDDLE",4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5(101)[",Decat($S,"MIDDLE",5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6(110)[",Decat($S,"MIDDLE",6),"]",/,</a:t>
            </a:r>
            <a:br>
              <a:rPr sz="1600"/>
            </a:br>
            <a:r>
              <a:rPr b="0" lang="en-US" sz="1600" spc="-1" strike="noStrike">
                <a:solidFill>
                  <a:srgbClr val="ffcc66"/>
                </a:solidFill>
                <a:latin typeface="Courier New"/>
              </a:rPr>
              <a:t>       "7(111)[",Decat($S,"MIDDLE",7),"]")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DACE-7A9E-4001-815A-DAFA3C2CE31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3080" y="240840"/>
            <a:ext cx="84200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AT function resul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77680" y="1282680"/>
            <a:ext cx="78613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arch behaviour controlled by third parame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T DO COURSE_DECAT</a:t>
            </a: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0(000)[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1(001)[END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2(010)[MIDDLE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3(011)[MIDDLEEND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4(100)[BEGINING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5(101)[BEGININGEND]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6(110)[BEGININGMIDDLE] </a:t>
            </a: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Courier New"/>
              </a:rPr>
              <a:t>7(111)[BEGININGMIDDLEEND] 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ost common DECAT operations are 1 and 4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209-0535-4B65-A2DB-D643AFE9C93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IN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98680" y="1257480"/>
            <a:ext cx="822960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EYIN captures ODT command responses from *any* OPAL program. Allows retrieval of System,BNA, network info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SHOW the output for any ODT comman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 COURSE_KEYIN(MSG)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IF $MSG:=KEYIN(TEXT) NEQ EMPTY THEN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SHOW( $MSG );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COURSE_KEYIN NW TCPIP STATU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CPIP IS CURRENTLY NETWORKING, 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RIP IS CURRENTLY ENABLED/RUNNING,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TCPIP SECURITY IS CURRENTLY RUNNING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s the response of the command as a string result.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um response returned is 16,400 characters (MCP 47.1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AL programs show wait status of (WAIT KEYI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EA8-6263-4966-8A67-CCA2BAAFCFD6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33440" y="177480"/>
            <a:ext cx="77472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IN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52480" y="1079640"/>
            <a:ext cx="770904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ookup a domain na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INE + ODTSEQUENCE COURSE_DNS(MSG):     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HOW(KEYIN("NA RES SHOW "&amp;TRIM(TEXT)))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O COURSE_DNS WWW.METALOGIC.EU.COM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Host www.metalog.com. is 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82.153.252.57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heck Resolver sett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EFINE + ODTSEQUENCE COURSE_RESOLVER:              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HOW(KEYIN("NA RES STATUS"),/,KEYIN("NA RES MODE"),/,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   KEYIN("NA RES CACHE")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T DO COURSE_RESOLVER                         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NS Resolver Vrs 46.189.8002 as DSS "DNSERVICE"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resently there are      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1 Linked library users   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1 TCP providers connected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Domain name: metalog.com.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MODE is Caching          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CACHE presently set to 2000 entries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eeb00b"/>
                </a:solidFill>
                <a:latin typeface="Courier New"/>
              </a:rPr>
              <a:t>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302-7318-411F-9CDA-E2428ADFA26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IN Examples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25760" y="1206000"/>
            <a:ext cx="7734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heck TCPIP setting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TCPIP:    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KEYIN("NW TCPIP TCPIPHOSTNAME"),/,  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KEYIN("NW TCPIP STATUS"),/,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KEYIN("NW TCPIP TCPIPIDENTITY")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COURSE_TCPIP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CPIPHOSTNAME = POWEREDGE.METALOG.COM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CPIP IS CURRENTLY NETWORKING,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RIP IS CURRENTLY ENABLED/RUNNING,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CPIP SECURITY IS CURRENTLY RUNNING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CPIPIDENTITY 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IPADDRESS 192.168.18.1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NP-DEVICE 210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MASK 255.255.255.0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LINEID 0,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IPADDRESS 150.101.198.199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NP-DEVICE 210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MASK 255.255.0.0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LINEID 1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32A-89A6-49EA-AA42-F7C8C8D8EA8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string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01720" y="1219320"/>
            <a:ext cx="781056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RIM removes extra spaces from head and tail of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RIM("  TRUNCATED STRING      "&amp;" RESULTS") give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RUNCATED STRING RESULT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AD right-justifies any string with leading spac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PAD("R-J STRING",25)</a:t>
            </a:r>
            <a:br>
              <a:rPr sz="1600"/>
            </a:b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  R-J STRING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TRING and STRING8 function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STRING(1.5,5 )&amp; " " &amp; STRING8(1.5,5 ) give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00002   1.5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UMBER returns integer value represented in words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NUMBER(1234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one thousand, two hundred and thirty four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PPER and LOWER forces string into upper lower case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UPPER("abCde")             returns   ABCD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LOWER("AbCdE"))            returns   abcd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6FB2-041B-4996-86E3-147DE9CE1B7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ID and FILEI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62040" y="1206000"/>
            <a:ext cx="798840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s level information about a  file title, passed as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FILE:="*SYSTEM/DELTA/MCP50_1A105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ID isolates specified level from a file-title string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FILEID ($File, 0)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*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FILEID ($File, 1)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SYSTEM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FILEID ($File, 2)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DELTA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ILEIDS returns number of levels in file ti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FILEIDS($File)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          returns 3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expression returns the penultimate level id of the MCP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FILEID ($File, FILEIDS($File)-1))   returns DELTA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34D8-B9A8-41AB-990C-39C0BBA13FB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20480" y="253800"/>
            <a:ext cx="84200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DIS, ISIN, TLIS, INCL, EQ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39440" y="1327320"/>
            <a:ext cx="76662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ng comparison operators not in WFL/Algo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:="DISPLAY:THIS IS A TEST."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 = "DISPLAY:"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FALS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DIS and TLI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 HDIS "DISPLAY:"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TRU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 TLIS "TEST."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TRU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IN and INC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"TEST" ISIN $S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TRU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 INCL {"LIVE","TEST"}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TRUE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QW allows wildcard matching of str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S EQW "=IS &amp;=TEST."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turns TRU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835-648D-434E-8698-B2F119C6341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OKUP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59080" y="1292040"/>
            <a:ext cx="819144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[..] is a subset of functions called LOOKUPs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[MX=&lt;program&gt;] will return mixnumber list matching nam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#[MX=*SYSTEM/COMS]" could return 7483,7489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LOOKUPs are always evaluated last in an express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Use of #( ) will force the evalu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AKE("#[MX=SYSTEM/COMS]",4) 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returns #[MX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TAKE(#("#[MX=SYSTEM/COMS]"),4) 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might return 7483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[PER=&lt;pack&gt;] will return unit number list matching labe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#(PK=DBSPACK]"  might return 47,48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Graphic highlight character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"#[CAN]BLINK#[RS]#[SUB]BRIGHT#[RS]#[SO]REVERSE#[RS]"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eb00b"/>
                </a:solidFill>
                <a:latin typeface="Courier New"/>
              </a:rPr>
              <a:t>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786-E4CC-48F4-9CA0-040AA776EA2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S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1280" y="1269720"/>
            <a:ext cx="8204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sses interrogation and action commands to SYSTEM/COM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turns response from COMS as string result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(SHOW(COMS("DISABLE PROGRAM STATISTICS"))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he following were processed: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Program STATISTICS Disabled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ach line of output delimited by carriage return (as KEYI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se SPLIT to parse respon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$RES:= COMS("STATUS PROGRAM MARC");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HILE $LINE:= $RES.SPLIT(/) NEQ EMPTY DO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"LINE #",#L:=#L+1,$LINE)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C3C-567A-4F22-BA17-8F7FA1C4B85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Log-based OPAL Contex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5120" y="1868400"/>
          <a:ext cx="7681680" cy="48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68400"/>
                    <a:ext cx="768168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10800" y="1287000"/>
            <a:ext cx="741852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ess to SUMLOG in real-time and log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20C-5CF6-415D-B1F6-1920D69564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DBS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79680" y="1422000"/>
            <a:ext cx="804384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asses interrogation and action commands to any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MSII 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turns responses from Visible DBS as string result 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TT DEFINE + ODTSEQUENCE COURSE_DBSTATUS(MSG):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IF $DB:=TRIM(UPPER(TRIM(TEXT)))=EMPTY THEN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DISPLAY("Database name is required")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ELSE 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IF $MX:=OBJECTS(MX=DBS:$DB ISIN NAME)= EMPTY  THEN 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DISPLAY("No active DB matching search string: ",$DB)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ELSE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BEGIN     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#MX:=DECIMAL($MX);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$DBN:=$MX.MX(NAME);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SHOW("#[SUB]--- STATUS ",$DBN," --",/,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     DBS(#MX,"STATUS"))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END;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ilar to KEYIN, multi-line output, SPLIT cap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E109-10B0-4214-BD08-5C7081B070C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2720" y="19836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PUT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1280" y="1269720"/>
            <a:ext cx="8204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Only valid when Opal code is run from a Supervisor wind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turns the next operator input from Supervisor window where the Opal code is ac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TT DEFINE + ODTSEQUENCE COURSE_DSCHECK(MX):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IF LPED THEN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BEGIN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SHOW("#[FF]Are you sure you want to DS",/,Name,/,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    "#[US]NO #[RS]");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IF UPPER(TRIM(INPUT))="YES" THEN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    ODT(MIXNO,"LP-"); 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END; </a:t>
            </a:r>
            <a:br>
              <a:rPr sz="1600"/>
            </a:br>
            <a:r>
              <a:rPr b="1" lang="en-US" sz="1600" spc="-1" strike="noStrike">
                <a:solidFill>
                  <a:srgbClr val="ffcc66"/>
                </a:solidFill>
                <a:latin typeface="Courier New"/>
              </a:rPr>
              <a:t>  ODT(MIXNO,,"DS0");</a:t>
            </a:r>
            <a:r>
              <a:rPr b="1" lang="en-US" sz="16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[FF] prefix clears screen and indicates forms mode will be 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#[US] and #[RS] give forms delimit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8A5-BA79-48A0-88DB-ACC08FAE670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0480" y="253800"/>
            <a:ext cx="84200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98680" y="124452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Mail interface to Metalogic Mail Library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Connects to selected SMTP server on local network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66"/>
                </a:solidFill>
                <a:latin typeface="Courier New"/>
              </a:rPr>
              <a:t>TT DO (#x:=MAIL("To:ian@metalog.com;Subject:Test","Text")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irst parameter must contain a ‘To:’;  optional headers ‘Subject:’, ‘Cc:’, ‘Bcc:’, ‘From:’ and ‘Reply:’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econd parameter is Text of message using / as line sepa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INE + ODTSEQUENCE COURSE_MAIL_W(MX):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MRES:= MAIL("To: ian@metalog.com,bob@metalog.com;"&amp;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      "Subject: Critical waiting entry",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     #("Mix : ", MIXNUMBER,/,"Task: ", NAME 60,/,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   "RSVP: ", RSVP)));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IF #MRES&lt;0 THEN </a:t>
            </a:r>
            <a:br>
              <a:rPr sz="1400"/>
            </a:b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DISPLAY("MAIL send error = ",MAILERROR(#MRES));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MAILERROR returns descriptive text of error using resul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A90-051B-41CC-BC9B-54FEA2140B74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71760" y="1212480"/>
            <a:ext cx="819144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rol statements may be included in text. The ^ character is default control character and must be first character in a lin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^INCLUDE &lt;File title/directory&gt;</a:t>
            </a:r>
            <a:br>
              <a:rPr sz="2400"/>
            </a:b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nserts the contents of the specified file in the body of the messa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^ATTACH &lt; File title/directory&gt;</a:t>
            </a:r>
            <a:br>
              <a:rPr sz="2400"/>
            </a:b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Links the specified file as an attachment to the messa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^ATTACHBD &lt;job number&gt;</a:t>
            </a:r>
            <a:br>
              <a:rPr sz="2400"/>
            </a:b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Links each print file in the *BD directory for the specified jo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^INCLUDEBD &lt;job number&gt;</a:t>
            </a:r>
            <a:br>
              <a:rPr sz="2400"/>
            </a:b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nserts contents of each print file in the *BD directory for specified Job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583-5C73-4CEE-A463-C0A3B33062C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09640" y="1139760"/>
            <a:ext cx="806472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^SIG &lt;specifier&gt;</a:t>
            </a:r>
            <a:br>
              <a:rPr sz="24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NONE 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Suppresses any signature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DATETIME 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Adds a message timestamp as a signature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&lt;Id&gt; 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Adds a signature read from a file with title: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Times New Roman"/>
              </a:rPr>
              <a:t>    *METALOGIC/MAILLIB/SIGNATURE/&lt;Id&gt; on &lt;HL family&gt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^TRANSFORM &lt;id&gt;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This causes the Id specified to be added as a prefix to the name of any attached file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Default Reply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If no ‘Reply:’ or ‘From’ header is specified then Reply is set to the address specified using the TT MAIL Postmaster comman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hecking results</a:t>
            </a:r>
            <a:br>
              <a:rPr sz="24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TT MAIL LOG shows recent mail actions</a:t>
            </a:r>
            <a:br>
              <a:rPr sz="2000"/>
            </a:br>
            <a:r>
              <a:rPr b="1" lang="en-GB" sz="2000" spc="-1" strike="noStrike">
                <a:solidFill>
                  <a:srgbClr val="ffcc66"/>
                </a:solidFill>
                <a:latin typeface="Times New Roman"/>
              </a:rPr>
              <a:t>See TT MAIL HELP for full command se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46A-872A-465D-BF0C-9BA4B34D3A8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33080" y="190080"/>
            <a:ext cx="77979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IA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50600" y="1180800"/>
            <a:ext cx="79628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VIA allows usage of "reference" attributes to access data in a different context or similar object in same cont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ee HELP ATTR JOBNUMBER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VIA(JOBNUMBER: #(NAME 20,,PRIORITY)) might return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MYJOB              80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ing OBJECTS, SPLIT and 'via properties' toge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EQUENCE COURSE_VIATEST: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$LIST:=OBJECTS(MX:"META" ISIN NAME);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WHILE $Item:=$List.Split NEQ EMPTY DO                             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$Item.MX(#(MIXNUMBER 4,,NAME)))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COURSE_VIATEST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4692 (SUPERVISOR)METALOGIC/SUPERVISOR/TAPELIBUPDATER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5157 (META)METALOGIC/SUPERVISOR/RECORDER ON DBSPACK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698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4688 *METALOGIC/SUPERVISOR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638-02C0-4E4F-82B0-DD01B54D475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33080" y="190080"/>
            <a:ext cx="77979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FL fun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50600" y="1180800"/>
            <a:ext cx="79628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Enables tracking of WFL jobs within O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lexible syntax, returns job number if successful  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JOB:= WFL("(META)JOB/TEST ON DEV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JOB:= WFL("BEGIN JOB TEST;RUN OBJECT/A;END JOB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an use FOR to pass usercode or will inherit from sl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eb00b"/>
                </a:solidFill>
                <a:latin typeface="Courier New"/>
              </a:rPr>
              <a:t>#JOB:= WFL("FOR META/PW START TEST/JOB")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gative function value means job fail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For DOs, job messages and events can be tracked using ON JOBMESSAGE bloc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aximum of 100 WFL jobs trackable in one WHEN slo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B8D-7A8C-470B-88A3-15E641BC473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33080" y="190080"/>
            <a:ext cx="779796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fun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50600" y="1180800"/>
            <a:ext cx="79628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ee the OPAL manual for details of the follow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Cle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DropFileI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Memb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Oc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Repe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a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akeFileI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ransl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0B5-1943-443A-B989-184CBE20AF2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34760" y="1250640"/>
            <a:ext cx="779796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a SITU to find any waiting entries that are waiting for an ACCEPT.  The following example would find all waiting entries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T DEF + SITU TEST(MX=W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TRUE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2. Write an Odts to Show the RSVP attribute of a MX entry.  Check it against the waiting entry called COURSE/WAITING     (Ex. TT DO BOB_RSVP 12345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. Extend the ODTS  using DECAT to strip the ACCEPT: prefix from the RSVP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4. Write a SITUation to find any task in the active mix with a name ending in MANAGER.  You can test it using TT EV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656-E17E-4082-8800-2D9596C813B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stat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25760" y="1269720"/>
            <a:ext cx="7797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ements can only be used in ODTSequences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, RECORD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ISPLAY, ABORT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PRINT, CHECKPOINT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PAL variable assignments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39480" indent="-33948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ually requires statement termination by semi-col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mitted compound statements such 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BEGIN… END block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IF… THEN.. ELSE block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WHILE..DO loops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354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O..UNTIL loops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39480" indent="-339480">
              <a:spcBef>
                <a:spcPts val="601"/>
              </a:spcBef>
              <a:spcAft>
                <a:spcPts val="75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ake actions such as DISPLAY messages, OPERATOR commands and invoke other Supervisor command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261-56B4-4D74-9003-A3DE67EDD62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CONTEX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08080" y="1223640"/>
            <a:ext cx="750744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A list of valid contexts is show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cc66"/>
                </a:solidFill>
                <a:latin typeface="Courier New"/>
              </a:rPr>
              <a:t>HELP CONTEXTS 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Courier New"/>
              </a:rPr>
              <a:t>                                                        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ffcc66"/>
                </a:solidFill>
                <a:latin typeface="Courier New"/>
              </a:rPr>
              <a:t>---- CONTEXTS ----  </a:t>
            </a:r>
            <a:br>
              <a:rPr sz="14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AFTER = SUNDAY, MONDAY, TUESDAY, WEDNESDAY, THURSDAY, FRIDAY, SATURDAY,    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</a:t>
            </a: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COLDSTART, TODAY                                                       C(COMPLETED)                                                                   DATABASE = OPEN, CLOSE                                                         DEFINE = SITU, ODTS, DISP, MEMO, COMMAND                                       DMS = START, STOP     </a:t>
            </a:r>
            <a:r>
              <a:rPr b="0" lang="en-GB" sz="2000" spc="-1" strike="noStrike">
                <a:solidFill>
                  <a:srgbClr val="ffcc66"/>
                </a:solidFill>
                <a:latin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br>
              <a:rPr sz="20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EI                                                                             FILECLOSE = CLOSE, PLI                                                         FILEOPEN                                                                       FILESTATUS = CREATIONCOPY, CREATION, REMOVAL, TITLE(TITLECHANGE), SECURITY,   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             </a:t>
            </a: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COPY, DESTROY, RELEASE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HTTP = &lt;INTEGER&gt;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Courier New"/>
              </a:rPr>
              <a:t>JOB                                                                            JOBREJECT                                                                      SQ(JOBQUEUE) = &lt;INTEGER&gt;                                                       LOG = &lt;INTEGER&gt;, &lt;INTEGER LIST&gt;                                                LOGBOJ = BOJ, BOT                                                              LOGEOJ = EOJ, EOT                                                              LOGHTTP                                                                        LOGOFF                                                                         LOGO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3CD-2901-4422-9668-AE46C36E586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…UNTIL statement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88760" y="1409400"/>
            <a:ext cx="782316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DO Statement is identical to the Unisys WFL and ALGOL DO statem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O &lt;ODTS statement&gt; UNTIL &lt;Boolean expression&gt;</a:t>
            </a:r>
            <a:r>
              <a:rPr b="0" lang="en-US" sz="16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repeats an ODTS Statement or compound statement until the specified expression become TRUE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 COURSE_CHECKPACK: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DO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WAIT("#[SUB] NO "&amp;DLBACKUP&amp;" SEGMENTS LEFT",OK)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UNTIL DUMAX(DLBACKUP) &gt; 100;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ODTS statement / block is always executed first regardless of the evaluation of the Boolean express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49EE-BD08-43D8-B6EA-F50D27F6F0A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…DO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829880" y="1029960"/>
            <a:ext cx="786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WHILE Statement is similar to the Unisys WFL and ALGOL WHILE statemen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WHILE &lt;Boolean expression&gt; DO &lt;ODTS statement&gt;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Boolean expression is tested, and if TRUE, the next statement or block is executed; the test is then repeat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control loop is exited when the Boolean expression evaluates to FALS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TT DEFINE + ODTS COURSE_OLAYSCOUT: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WHILE RUNNING("OLAYSCOUT") DO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BEGIN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SHOW ("OLAYSCOUT RUNNING");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WAIT("#[SUB] NO OVERLAY SECTORS",OK);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END;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eeb00b"/>
                </a:solidFill>
                <a:latin typeface="Courier New"/>
              </a:rPr>
              <a:t>SHOW("Done");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Boolean expression is ALWAYS evaluated before executing the ODTS statement / block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E4C-E6EA-44CA-8A19-45AD13E0773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98320" y="190080"/>
            <a:ext cx="774684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BORT and EXIT statemen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85520" y="1118880"/>
            <a:ext cx="7875720" cy="53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orces immediate abort of DO or WHE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(ABORT("I'M ABORTING"); DISPLAY("WON'T SEE THIS")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UPERVISOR/INLINE_9 ABORT:I'M ABORTING</a:t>
            </a:r>
            <a:br>
              <a:rPr sz="12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BORT with empty string forces graceful termination of slo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 *only* exits active ODTS (including CALL 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IT does NOT abort WH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EQUENCE COURSE_MEMCHECK: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IF (CUAVAIL/TOTALMEMORY)*100 GTR 1 THEN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BEGIN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AVAIL MEMORY THRESHOLD &gt; 1%");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EXIT;                          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END;                              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SHOW("INVOKING MEMORY MONITOR");  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IF DEFINED("ODTS C_MEMMAKER") THEN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TT DO C_MEMMAKER");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ffcc66"/>
                </a:solidFill>
                <a:latin typeface="Courier New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EFC-9140-4824-8944-49E30D944EB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LL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74640" y="1231560"/>
            <a:ext cx="8128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LL invokes another Opal DO or DISP in same WHEN slot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ALL DO or CALL DISPLAY requires string parame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ALL DO $MYFUN";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ALL DISPLAY "MYDISP";</a:t>
            </a:r>
            <a:br>
              <a:rPr sz="12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ariables heap is retained and available to CAL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CALLED:                       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$PAGE:=&amp;#(#X,,)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CALL:         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hile #X.Sum(1) &lt; 6 Do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If Defined("ODTS COURSE_CALLED") Then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ALL DO "COURSE_CALLED"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lse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"ODTS COURSE_CALLED is not defined");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$PAGE);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COURSE_CALL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1 2 3 4 5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916-3712-4EE3-9BEE-CF4C793698C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74440" y="1063800"/>
            <a:ext cx="7759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ke CASE function, but has numeric and string indexing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plicit case numbering and ELSE handle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NUM_CASE(MSG):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ase Decimal(Text) Of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Begin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1:$C:="USA";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44:$C:="UK";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352:$C:="Luxembourg";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31:$C:="Netherlands";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64:$C:="New Zealand";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972:$C:="Israel";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57:$C:="Colombia";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506:$C:="Cost Rica";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420:$C:="Czech Republic";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358:$C:="Finland";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33:$C:="France";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lse:$C:="Not yet defined";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nd;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"Code ",text,,"is ",$C)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COURSE_NUM_CASE 352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79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ode 352 is Luxembourg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D724-C773-45D8-A63D-A542FAA6209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E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27280" y="1004400"/>
            <a:ext cx="769608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sing String Label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STR_CASE(MSG):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ase Upper(Trim(Text)) Of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Begin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USA":#C:=1;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UK":#C:=44 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LUXEMBOURG":#C:=352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NETHERLANDS":#C:=31 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NEW ZEALAND":#C:=64;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ISRAEL":#C:=972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COLOMBIA":#C:=57;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COSTA RICA":#C:=506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CZECH REPUBLIC":#C:=420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FINLAND":#C:=358;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FRANCE":#C:=33;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lse:#C:=-1;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nd; 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"Country ",Text, If #C &lt; 0 Then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" has no Code Defined."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Else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#(" has code",,#C))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COURSE_STR_CASE Czech Republic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ountry Czech Republic has code 420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1A8-21CB-4C1E-915B-5D57CD8C3FF0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MP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33680" y="1322280"/>
            <a:ext cx="783576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Printed program dump of active WHEN or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seful for debugg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tring and real stacks are dumped, detailed slot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Running WHENs or Dos can be interrogated </a:t>
            </a:r>
            <a:br>
              <a:rPr sz="2800"/>
            </a:b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sing Supervisor SLOT comman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UMP automatically forced if OPAL code faul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F66-4EBA-4F6E-905B-2BC548AD9A9C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 JOBMESSAGE 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36840" y="1333080"/>
            <a:ext cx="78357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ows job messages to be track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ly valid after WFL function usag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#JOB:= WFL("START TESTJOB ON DEV");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ON JOBMESSAGE DO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JOBNO,,JOBTEXT);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ttributes available from JOB con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ximum of 100 jobs can be tracked in one slo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ultiple ON JOBMESSAGE blocks permit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TINUE allows early exit of blo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877-F603-4AD3-9CA4-49BBD5C44D78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NT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36840" y="1333080"/>
            <a:ext cx="783576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ows formatting of output to printer backup fil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PRINT ("This is a test",/,"Second line of output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PRINT ("MCP is ",MCP,/,$TEST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simulate a printed "PER PK" comman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b00b"/>
                </a:solidFill>
                <a:latin typeface="Courier New"/>
              </a:rPr>
              <a:t>TT EVAL COURSE_PRINT DO COURSE_PRINT</a:t>
            </a:r>
            <a:br>
              <a:rPr sz="1800"/>
            </a:b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text is "SPLIT", backup file closed and releas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b00b"/>
                </a:solidFill>
                <a:latin typeface="Courier New"/>
              </a:rPr>
              <a:t>PRINT("SPLIT")</a:t>
            </a: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 text starts with "PRDEF", can change PRINTDEFAULTS attribu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b00b"/>
                </a:solidFill>
                <a:latin typeface="Courier New"/>
              </a:rPr>
              <a:t>PRINT('PRDEF=DESTINATION="MAIL",NOTE="TO:META"')</a:t>
            </a: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CFF-3E47-4E25-A73E-178208D163CB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RD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74280" y="1193760"/>
            <a:ext cx="789948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ends a message to a HOTLINE -like alert program or write to blocked, stream, or variable length fi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quires a file index, using intege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CORD[5]("Write to disk file #5"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efault 0-5 are disk files, 6-11 are port fi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ternatively, mnemonics set up by TT REC are allow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CORD[RSVP](MIXNO 4,,NAME 40,, RSVP 30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nemonics must be valid at compile-time and checked at run-tim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RECORD[INVALID]("This won't compile")     -&gt; gives error  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UNKNOWN RECORDER CLASS MNEMONIC - INVALID (LINE:1)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B2D-9616-406D-A321-192A732F06FC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CONTEX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47440" y="1329840"/>
            <a:ext cx="78519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More contexts 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66"/>
                </a:solidFill>
                <a:latin typeface="Courier New"/>
              </a:rPr>
              <a:t>	</a:t>
            </a: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LOGPS = CREATED, COMPLETION, STARTED, PRINTED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MCSSECURITY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METALOG = SUPERVISOR(SUP), TRIM, MAIL(MAILLIB)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MSG(MESSAGE)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MX(MIX) = A(ACTIVE), LIBS(LIBRARIES), S(SCHEDULED), W(WAITING), GOING, PR,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        (PRIORITY), BOT(BOJ), DBS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NAPLOG = &lt;INTEGER&gt;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OPERATOR = SETSTATUS, CONTROLLER, PS, PRIMITIVE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PD     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PER = MT, LP(TP), DK, SC(ODT), CD(CDROM), TSP, HY, CR, CP, DC, PK, UD, HC, CDR,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      SPC, ARP, IP, NP, VSID, LBP, VC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PRINTS 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SECURITY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SHOWOPEN = DK, PK, CD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SL     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SYSTEM 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TAPEDB = PENDING(BYPENDING), BYNAME(NAME), BYFAMILY(FAMILY), BYLOCATION,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      (LOCATION), SCRATCH(BYSCRATCH), BYTS(TS), BYPOOL(POOL)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TAPELABEL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U(USER)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VDBS                                                 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VL = TAPE, DISK, PACK, CD, CDIMAGE(CDR), FARM(REMOTE)     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VOLUME = ONLINE, OFFLINE, TAPEPG, TAPEEXPIRY, TAPENEW, TAPEUSE, TAPEHOLD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WHEN                         </a:t>
            </a:r>
            <a:br>
              <a:rPr sz="1200"/>
            </a:br>
            <a:r>
              <a:rPr b="1" lang="en-GB" sz="1200" spc="-1" strike="noStrike">
                <a:solidFill>
                  <a:srgbClr val="ffcc66"/>
                </a:solidFill>
                <a:latin typeface="Times New Roman"/>
              </a:rPr>
              <a:t>WINDOWS = REMOTE, MCS, DIREC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706-E83B-4725-9E46-E9EBF0BF312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IT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82640" y="1098360"/>
            <a:ext cx="802656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spends ODTS execution until specified condition occur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EFINE + ODTSEQUENCE COURSE_WAITMX: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BEGIN JOB SUP/TEST;",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"WAIT(""OK TO ", TO CONTINUE"",OK);WAIT(20);",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     "END JOB");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WAIT("SUP/TEST",MX);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UP/TEST IN MIX");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WAIT("SUP/TEST",WAITING); 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UP/TEST WAITING");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ODT("#[MX=SUP/TEST] OK"); 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HOW("SUP/TEST",COMPLETED);  </a:t>
            </a:r>
            <a:br>
              <a:rPr sz="1600"/>
            </a:b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DISPLAY("SUP/TEST COMPLETED");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visor waits for job to achieve specified state: ACTIVE, WAITING or COMPLETED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COURSE_WAITMX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HE DO WILL BE DONE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UP/TEST IN MIX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UP/TEST WAITING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05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SUP/TEST COMPLETED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982-C19B-4E6F-A31F-12FEFA4D2853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IT stat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74280" y="1130040"/>
            <a:ext cx="805356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IT on time or OK (requires operator acknowledgement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EFINE + ODTSEQUENCE COURSE_WAITOK: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AIT("STOP CANDE", OK);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ODT("#[MX=SYSTEM/CANDE] SM SS ALL CANDE WILL QUIT IN 5 MINS");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AIT(300);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HOW("#[MX=SYSTEM/CANDE] SM QUIT");%change to ODT when tested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mulates a QUIT of CANDE with warnings to user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DO COURSE_WAITOK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MSG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------- MESSAGES --------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* 6826 SUPERVISOR: ENTER 'TT OK COURSE_WAITOK' TO STOP CANDE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 appears in TT WHEN ? with (WAIT OK) sta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OK COURSE_WAITOK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OK ACCEPTED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UPERVISOR/COURSE_WAITOK ODT:3373 SM SS ALL CANDE WILL QUIT IN 5 MIN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UPERVISOR/COURSE_WAITOK ODT:3373 SM SS ALL CANDE QUITTING NOW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UPERVISOR/COURSE_WAITOK ODT:3373 SM QUIT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IT(0) flushes pending DISPLAYs and ODT command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5B4-FEAA-438E-A512-46373CCB1EBF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AL scripting too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1920" y="1337760"/>
            <a:ext cx="8072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From SUPERVISOR, OPALS compiled by DEFINE and ENTER for multiple DEF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SYSTEM/OPAL for syntax checking for SUPERVISOR and FLEX scripts from CANDE 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GET SUP/OPAL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COMPILE WITH OPAL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UPDATING                      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COMPILING 31780                                             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** Compiling ODTS TEST_A **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Compiled Ok.. 1 lines, 8 bytes code, 1 sectors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** Compiling ODTS TEST_B **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Compiled Ok.. 1 lines, 8 bytes code, 1 sectors 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2 DEFINE(S) processed,0 DEFINE(S) failed,0 Error(s)found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eb00b"/>
                </a:solidFill>
                <a:latin typeface="Courier New"/>
              </a:rPr>
              <a:t>#ET=0.6 PT=0.2 IO=0.1</a:t>
            </a:r>
            <a:r>
              <a:rPr b="1" lang="en-GB" sz="12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Unisys Programmers' Workbench excellent faciliti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D8E-1625-4802-93A8-983C907918D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ing INLINE OP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62120" y="1310760"/>
            <a:ext cx="80265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ISPLAY: Compiles and executes a response st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ISP (&lt;Optional Context&gt;:&lt;OPAL String&gt;)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ITUATION: Compiles and evaluates a condition against all the entities in the given contex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EVAL (&lt; Optional Context&gt; : &lt;Boolean expression&gt;) </a:t>
            </a:r>
            <a:br>
              <a:rPr sz="1600"/>
            </a:b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DTSEQUENCE: Compiles and executes operator 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(&lt;optional context&gt; : &lt;ODTS Statement&gt;)</a:t>
            </a:r>
            <a:br>
              <a:rPr sz="1600"/>
            </a:br>
            <a:r>
              <a:rPr b="0" lang="en-US" sz="1000" spc="-1" strike="noStrike">
                <a:solidFill>
                  <a:srgbClr val="eeb00b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 exampl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ISP (MCP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EVAL (MX=W:TRUE)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eb00b"/>
                </a:solidFill>
                <a:latin typeface="Courier New"/>
              </a:rPr>
              <a:t>TT DO (MX:Show(RSVP)) 12345</a:t>
            </a:r>
            <a:endParaRPr b="0" lang="en-US" sz="1600" spc="-1" strike="noStrike">
              <a:solidFill>
                <a:srgbClr val="eeb00b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3C73-C3B7-481C-9197-9C90E7C5550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(when defining Opals prefix the name with your initial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15680" y="1363680"/>
            <a:ext cx="79628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Write an System ODT sequence to Show the following: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MCP codefile is called *SYSTEM/MCP/46001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Intrinsics codefile is called *SYSTEM/INTRINSICS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Available Memory is 1240545 words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Save Memory is 1000451 words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User CPU utilization is 47%</a:t>
            </a:r>
            <a:br>
              <a:rPr sz="1600"/>
            </a:br>
            <a:r>
              <a:rPr b="1" lang="en-GB" sz="1600" spc="-1" strike="noStrike">
                <a:solidFill>
                  <a:srgbClr val="ffcc66"/>
                </a:solidFill>
                <a:latin typeface="Courier New"/>
              </a:rPr>
              <a:t>TRUE Idle CPU utilization is 40%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aeaea"/>
                </a:solidFill>
                <a:latin typeface="Times New Roman"/>
              </a:rPr>
              <a:t>Write a MX ODT sequence to show the following information for a waiting entry:</a:t>
            </a:r>
            <a:br>
              <a:rPr sz="1600"/>
            </a:b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Mixnumber, Name, Display, RSVP and time waited. Format the output as follows.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Courier New"/>
              </a:rPr>
              <a:t>12345 my/pro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Courier New"/>
              </a:rPr>
              <a:t>Display: this is my last display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Courier New"/>
              </a:rPr>
              <a:t>RSVP   : this is my rsvp</a:t>
            </a: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Courier New"/>
              </a:rPr>
              <a:t>Waited : 00:05:30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ffcc66"/>
                </a:solidFill>
                <a:latin typeface="Courier New"/>
              </a:rPr>
              <a:t>Test it by TT DO &lt;inits&gt;&lt;name&gt; &lt;waiting mixno&gt;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A9A-47A3-4396-9C71-18084D9F39C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(when defining Opals prefix the name with your initial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15680" y="1363680"/>
            <a:ext cx="79628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The ODTS COURSE_EX_3 produces a list of units which are base packs.  Redefine the ODTS using your initials as a prefix and extend it to report the family capacity, in sectors, for each base pack and add a line to report the total capacity (this should match the total in an FP response) e.g.   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TOTAL SECTORS = 123456789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You should only look at disks that are on-line, ready and labelled.</a:t>
            </a:r>
            <a:br>
              <a:rPr sz="2400"/>
            </a:b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Compare your results to the FP comm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678-9FEA-4D21-8F2D-AE7D7EDCBF5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rcise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(when defining Opals prefix the name with your initials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615680" y="1363680"/>
            <a:ext cx="796284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Write a SITUation and ODTSequence that does an EVAL of the Active mix and show </a:t>
            </a:r>
            <a:r>
              <a:rPr b="1" lang="en-GB" sz="2000" spc="-1" strike="noStrike">
                <a:solidFill>
                  <a:srgbClr val="eaeaea"/>
                </a:solidFill>
                <a:latin typeface="Times New Roman"/>
              </a:rPr>
              <a:t>all</a:t>
            </a: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 tasks that are PRIVILEGED programs (MP + PU) or running under a privileged usercode. 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abulate the report to show mix number, task name, usercode and whether the calling usercode is privileged or the codefile is marked as MP+PU. 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E.g:</a:t>
            </a:r>
            <a:br>
              <a:rPr sz="2000"/>
            </a:b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1234 *SYSTEM/COMS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*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4567 *METALOGIC/SUPERVISOR 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SUPERVISOR:PU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    MP+PU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5678 *SYSTEM/DUMPALL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Courier New"/>
              </a:rPr>
              <a:t>META      :PU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…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To test your code enter TT EV &lt;situ name&gt; DO &lt;ODTS NAME&gt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1FE-5EA5-472E-B9AE-177A188D56C4}" type="slidenum">
              <a:t>8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3440" y="177840"/>
            <a:ext cx="77472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ATTRIBU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04880" y="1274760"/>
            <a:ext cx="8035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HELP ATT command  provides info for OPAL attribute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Used from any Supervisor Window or OD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HELP ATT WM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---- HELP ATTRIBUTES ----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WM (SYSTEM) RETURNS STRING IN THE FORM OF A FILE TITLE, 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CONSTANT UNTIL NEXT HALTLOAD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MCP IS A SYNONYM FOR THIS ATTRIBUTE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EMANTICS : The name of the current, running MCP codefile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TT HELP ATTR HOSTNAME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---- HELP ATTRIBUTES ----</a:t>
            </a: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HOSTNAME (SYSTEM) RETURNS STRING IN THE FORM OF A FILE TITLE</a:t>
            </a:r>
            <a:br>
              <a:rPr sz="1400"/>
            </a:br>
            <a:r>
              <a:rPr b="1" lang="en-US" sz="1400" spc="-1" strike="noStrike">
                <a:solidFill>
                  <a:srgbClr val="eeb00b"/>
                </a:solidFill>
                <a:latin typeface="Courier New"/>
              </a:rPr>
              <a:t>SEMANTICS : HOSTNAME returns the name of the system (for BNA purposes, as specified by the ODT HN command)  </a:t>
            </a:r>
            <a:br>
              <a:rPr sz="1400"/>
            </a:br>
            <a:endParaRPr b="0" lang="en-US" sz="1400" spc="-1" strike="noStrike">
              <a:solidFill>
                <a:srgbClr val="eeb00b"/>
              </a:solidFill>
              <a:latin typeface="Courier New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T PRINT ATTRIBUTES provides a complete lis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2CF-03CC-433C-85F4-36BBE298191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15:13:00Z</dcterms:created>
  <dc:creator>Hazel McMahon</dc:creator>
  <dc:description/>
  <dc:language>en-US</dc:language>
  <cp:lastModifiedBy>Robert Nicol</cp:lastModifiedBy>
  <cp:lastPrinted>2009-04-14T11:07:49Z</cp:lastPrinted>
  <dcterms:modified xsi:type="dcterms:W3CDTF">2009-04-14T11:13:07Z</dcterms:modified>
  <cp:revision>292</cp:revision>
  <dc:subject/>
  <dc:title>METALOGIC S.à r.l</dc:title>
</cp:coreProperties>
</file>